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jpeg" ContentType="image/jpeg"/>
  <Override PartName="/ppt/media/image6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ABFD-27CD-49C6-9107-BA06F6923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CD85-EA7E-40A2-8189-643426328F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70CD-409C-43FC-A622-F1A658001F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47AE-D9C0-4D7A-9711-9C78E3D0B6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6E73-3571-4028-B552-E8A4017A8B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7A22-9A7A-4742-BE7E-0E44FA035C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4D9F-623B-4BB0-A30B-643BDFD934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A125-0445-4FB7-ABE4-CD2E2D3DB5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C18B-A2FA-48D8-9C3B-EAAF65C186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6B24-C5EB-4795-B39F-39A4EBFB83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5A4B-0769-43CA-93A0-A150735F0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1E3C-0FEE-47DC-8191-A57B1A9A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1DF6-7CE7-46F7-86E2-C36E00203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1436-BCB1-438D-B601-21798EC08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D79D-43F9-439F-AE0E-BE3C1178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45D7-A12E-4FEC-B904-773DAE8F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E0CA-6CD4-40E4-96DC-99F5C2DC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1066-EB50-463F-A769-894FE892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B618-4619-4554-8913-5992D162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2C92-79A5-4479-BB2E-5F3F890D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86C4-F923-42A0-98D3-50719E80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A376-1300-48D2-A4C2-9DA367D4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1717-CF7B-4EB5-A408-EF8351A8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D6B8-15AC-4627-8834-62D93758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27E3-12D5-44DB-911F-8905BC29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EDB2-888A-49B3-BDA0-F60AFC3C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1B79-45C1-4B83-BD85-AF1C44BD8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746F-50B5-4DD3-B2C6-DEDBB6B2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B1D3-2BCB-4005-A5CC-EBF6C43B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BF29-7465-4C8A-A1A0-09AF5C19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D006-CFEC-4171-AF25-36CC0E7B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4C08-2F57-4E27-AA61-BB166600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E4F9-989E-40AF-A7B1-77EC0548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5F18-9FBB-46BB-9B77-849EE91F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70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C9E2-3F36-4A7A-8E18-923CBEEDB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5E6E-102A-456D-A027-1D1F32D848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hyperlink" Target="http://www.nytimes.com/2011/06/03/business/03plate.html" TargetMode="External"/><Relationship Id="rId5" Type="http://schemas.openxmlformats.org/officeDocument/2006/relationships/hyperlink" Target="http://www.nytimes.com/2011/06/03/business/03plate.html" TargetMode="External"/><Relationship Id="rId6" Type="http://schemas.openxmlformats.org/officeDocument/2006/relationships/hyperlink" Target="http://www.nytimes.com/2011/06/03/business/03plate.html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ric.ed.gov/ERICWebPortal/search/simpleSearch.jsp?_pageLabel=ERICSearchResult&amp;_urlType=action&amp;newSearch=true&amp;ERICExtSearch_SearchType_0=au&amp;ERICExtSearch_SearchValue_0=%22Sampson+Barbara+B.%22" TargetMode="External"/><Relationship Id="rId2" Type="http://schemas.openxmlformats.org/officeDocument/2006/relationships/hyperlink" Target="http://www.eric.ed.gov/ERICWebPortal/search/simpleSearch.jsp?_pageLabel=ERICSearchResult&amp;_urlType=action&amp;newSearch=true&amp;ERICExtSearch_SearchType_0=au&amp;ERICExtSearch_SearchValue_0=%22Pennington+Todd+R.%22" TargetMode="External"/><Relationship Id="rId3" Type="http://schemas.openxmlformats.org/officeDocument/2006/relationships/hyperlink" Target="http://www.eric.ed.gov/ERICWebPortal/search/simpleSearch.jsp?_pageLabel=ERICSearchResult&amp;_urlType=action&amp;newSearch=true&amp;ERICExtSearch_SearchType_0=au&amp;ERICExtSearch_SearchValue_0=%22Prusak+Kevin+A.%22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Eat Healthy &amp; Exercise to Stay 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Fit for Life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4073400"/>
            <a:ext cx="7772400" cy="20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ril Barab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BSE 7201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 20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19" descr="fitforlife2"/>
          <p:cNvPicPr/>
          <p:nvPr/>
        </p:nvPicPr>
        <p:blipFill>
          <a:blip r:embed="rId1"/>
          <a:stretch/>
        </p:blipFill>
        <p:spPr>
          <a:xfrm>
            <a:off x="1765440" y="1828800"/>
            <a:ext cx="53276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atement of the Probl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children suffer from a lack of self esteem and this effects their ability to excel in sports &amp; exercise. </a:t>
            </a:r>
            <a:r>
              <a:rPr b="0" lang="en-US" sz="1400" spc="-1" strike="noStrike">
                <a:solidFill>
                  <a:srgbClr val="ffffff"/>
                </a:solidFill>
                <a:latin typeface="Abadi MT Condensed Extra Bold"/>
              </a:rPr>
              <a:t>(Glazebrook, Batty, Mullan, MacDonald, Nathan, Sayal, Smyth &amp; Yang, 201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ese children face a future of ill health because of poor eating and exercise habits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atson, Baranowski, Thompson, 2012) and (Gruber, &amp; Halderman, 2009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atement of the probl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is a growing body of evidence that suggests a link between lack of physically activity and poor academic success.</a:t>
            </a:r>
            <a:r>
              <a:rPr b="0" lang="en-US" sz="3200" spc="-1" strike="noStrike">
                <a:solidFill>
                  <a:srgbClr val="1f1f1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badi MT Condensed Extra Bold"/>
              </a:rPr>
              <a:t>("Presidential youth fitness," 2012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view of the Literatu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body hates gym!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why?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raser, Sampson, Pennington, &amp; Prusak, 201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TNESSGRAM - the Solution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idential youth fitness,</a:t>
            </a: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1400" spc="-1" strike="noStrike">
                <a:solidFill>
                  <a:srgbClr val="ffffff"/>
                </a:solidFill>
                <a:latin typeface="Lucida Grand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12) and (Graser, et al. 201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6324480" y="4419720"/>
            <a:ext cx="161136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view of the Literatu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TAK (Steps to Active kids)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(Glazebrook, et al. 2011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hysical Education program targeting insecure or unhealthy children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lazebrook, et al 201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oal- build their self-confidence to exercise so students will enjoy staying fit for lif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943600" y="5181480"/>
            <a:ext cx="25779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view of the Literatu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rcise is good for your mind and your heart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ying fit through exercise and cardio fitness prevents heart attacks and strokes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Thijssen, Cable, &amp; Green, 201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rcising strengthens the executive functioning portion of the brain. </a:t>
            </a:r>
            <a:r>
              <a:rPr b="0" lang="en-US" sz="1600" spc="-1" strike="noStrike">
                <a:solidFill>
                  <a:srgbClr val="ffffff"/>
                </a:solidFill>
                <a:latin typeface="Abadi MT Condensed Extra Bold"/>
              </a:rPr>
              <a:t>(Tomporowski, Davis, Miller, Nagliericite, 2008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905120" y="41911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2465280" y="407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view of the literatu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816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yPlate.gov -created by Michele Obama in 2010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ja-JP" sz="1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 brief history of USDA good guides,</a:t>
            </a:r>
            <a:r>
              <a:rPr b="1" lang="ja-JP" sz="1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2011.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ing students eating habits is always a challenge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(Gruber, &amp; Halderman, 2009), and (Watson, et al. 2012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formance is only one factor to dictate a persons health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(Monyeki, Neetens, Moss &amp; Twisk, 2012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Object 6"/>
          <p:cNvGraphicFramePr/>
          <p:nvPr/>
        </p:nvGraphicFramePr>
        <p:xfrm>
          <a:off x="5713560" y="1676520"/>
          <a:ext cx="68594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3560" y="1676520"/>
                    <a:ext cx="68594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Picture 10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4038480" cy="3672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1"/>
          <p:cNvSpPr/>
          <p:nvPr/>
        </p:nvSpPr>
        <p:spPr>
          <a:xfrm>
            <a:off x="5105520" y="52578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trition </a:t>
            </a:r>
            <a:r>
              <a:rPr b="0" lang="en-US" sz="1800" spc="-1" strike="noStrike" u="sng">
                <a:solidFill>
                  <a:srgbClr val="faa700"/>
                </a:solidFill>
                <a:uFillTx/>
                <a:latin typeface="Arial"/>
                <a:hlinkClick r:id="rId4"/>
              </a:rPr>
              <a:t>Plate </a:t>
            </a:r>
            <a:r>
              <a:rPr b="0" lang="en-US" sz="1800" spc="-1" strike="noStrike" u="sng">
                <a:solidFill>
                  <a:srgbClr val="faa700"/>
                </a:solidFill>
                <a:uFillTx/>
                <a:latin typeface="Arial"/>
                <a:hlinkClick r:id="rId5"/>
              </a:rPr>
              <a:t>Unveiled, Replacing Food </a:t>
            </a:r>
            <a:r>
              <a:rPr b="0" lang="en-US" sz="1800" spc="-1" strike="noStrike" u="sng">
                <a:solidFill>
                  <a:srgbClr val="faa700"/>
                </a:solidFill>
                <a:uFillTx/>
                <a:latin typeface="Arial"/>
                <a:hlinkClick r:id="rId6"/>
              </a:rPr>
              <a:t>Pyrami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search Hypothe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901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project will implement a nutritional program based on MyPlate and exercise strategies using the FITNESSGRAM. The student body will be fifty fifth graders. We will meet three times a week for morning classes that last forty-five minutes over a ten week period. The setting will be in P.S. X, an urban school in Brooklyn NY. The goal is to teach the students how to achieve a  healthy life-style and become fit for life.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 brief history, 2011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ference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24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 brief history of usda food guides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(2011). Retrieved from http://www.choosemyplate.gov/food-groups/downloads/MyPlate/ABriefHistoryOfUSDAFoodGuides.pd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Glazebrook, C., Batty, M., Mullan, N., MacDonald, I., Nathan, D., Sayal, K., Smyth, A., Yang, M., Boliang, G. &amp; Hollis, C. (2011). Evaluating the effectiveness of a schools-based programme to promote exercise self-efficacy in children and young people with risk factors for obesity: Steps to active kids (stak).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ioMedCentral Public Health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(830), doi: 10.1186/1471-2458-11-83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Graser, S. </a:t>
            </a:r>
            <a:r>
              <a:rPr b="0" lang="en-US" sz="1000" spc="-1" strike="noStrike" u="sng">
                <a:solidFill>
                  <a:srgbClr val="faa700"/>
                </a:solidFill>
                <a:uFillTx/>
                <a:latin typeface="Times New Roman"/>
                <a:hlinkClick r:id="rId1"/>
              </a:rPr>
              <a:t>Sampson, B.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1000" spc="-1" strike="noStrike" u="sng">
                <a:solidFill>
                  <a:srgbClr val="faa700"/>
                </a:solidFill>
                <a:uFillTx/>
                <a:latin typeface="Times New Roman"/>
                <a:hlinkClick r:id="rId2"/>
              </a:rPr>
              <a:t>Pennington, T.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1000" spc="-1" strike="noStrike" u="sng">
                <a:solidFill>
                  <a:srgbClr val="faa700"/>
                </a:solidFill>
                <a:uFillTx/>
                <a:latin typeface="Times New Roman"/>
                <a:hlinkClick r:id="rId3"/>
              </a:rPr>
              <a:t>Prusak, K.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(2011). Children's Perceptions of Fitness Self-Testing, the Purpose of Fitness Testing, and Personal Health. Physical Educator.  v68 n4 p175-18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Gruber, K. &amp; Halderman, L.(2009). Using the Family to Combat Childhood and Adult   Obesity. Preventive Chronic Disease. 6(3):A106. http://www.cdc.gov/pcd/issues/2009/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onyeki, M., Neetens, R., Moss, S., &amp; Twisk, J. (2012). The relationship between body composition and physical fitness in 14 year old adolescents residing within the tlokwe local municipality, south africa: The pahl study.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ioMedicalCenter Public Health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(374), doi: :10.1186/1471-2458-12-37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spcAft>
                <a:spcPts val="1001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euman, W. (2011, 05 02). Nutrition plate unveiled, replacing food pyramid.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New York Times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 Retrieved from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nytimes.com/2011/06/03/business/03plate.ht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spcAft>
                <a:spcPts val="1001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residential youth fitness program adopts the FITNESSGRAM assessment; new fitness program teaches skills for lifelong physical activity. (2012, 09 11). PRWeb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hijssen, D., Cable, N., &amp; Green, D. (2012). Impact of exercise training on arterial wall thickness in humans.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S national library of medicine national institutes of health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2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(Pt7), 311–322. doi: 10.1042/CS2011046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spcAft>
                <a:spcPts val="1001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omporowski, P. Davis, C. Miller, P. Nagliericite, J. (2008). Exercise and children</a:t>
            </a:r>
            <a:r>
              <a:rPr b="0" lang="ja-JP" sz="1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 intelligence, cognition, and academic achievement</a:t>
            </a:r>
            <a:r>
              <a:rPr b="0" lang="en-US" sz="10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Educ Psychol Rev. 2008 June 1. 20(2): 111–131. doi:  </a:t>
            </a:r>
            <a:r>
              <a:rPr b="0" lang="en-US" sz="1000" spc="-1" strike="noStrike" u="sng">
                <a:solidFill>
                  <a:srgbClr val="ffffff"/>
                </a:solidFill>
                <a:uFillTx/>
                <a:latin typeface="Times New Roman"/>
              </a:rPr>
              <a:t>10.1007/s10648-007-9057-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spcAft>
                <a:spcPts val="1301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atson, K. Baranowski, T. Thompson, D. (2012). Item response modeling: an     evaluation of the children's fruit and vegetable self-efficacy questionnaire. Health Education Research. 21(1); i47-i57. http://www.ars.usda.gov/research/publications/publications.htm?seq_no_115=20494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0T16:37:04Z</dcterms:created>
  <dc:creator>Norman</dc:creator>
  <dc:description/>
  <dc:language>en-US</dc:language>
  <cp:lastModifiedBy>student</cp:lastModifiedBy>
  <dcterms:modified xsi:type="dcterms:W3CDTF">2012-10-23T22:06:55Z</dcterms:modified>
  <cp:revision>10</cp:revision>
  <dc:subject/>
  <dc:title>Eat Healthy &amp; Exercise to stay  Fit for Life</dc:title>
</cp:coreProperties>
</file>